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61399"/>
        <c:axId val="72567545"/>
      </c:barChart>
      <c:catAx>
        <c:axId val="23861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67545"/>
        <c:crosses val="autoZero"/>
        <c:auto val="1"/>
        <c:lblAlgn val="ctr"/>
        <c:lblOffset val="100"/>
        <c:noMultiLvlLbl val="0"/>
      </c:catAx>
      <c:valAx>
        <c:axId val="72567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61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FAE-9C33-4100-A7D0-2FBA18D1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E95-5278-4CB3-ADB5-1A3E74A2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57A-93E4-4C9F-AA11-5D323D87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8E2-1E2A-4B7D-808A-1186F714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998-11CB-4B14-BC69-DC52834E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937-504A-4AC1-B5EC-7999BF8F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895-E8B7-480B-B3B9-1C061935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580-A712-4048-8935-0FFABEE2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532-B927-42E9-8314-86CDE318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43A-F67E-4A66-BB35-A2427D4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833-31F7-4953-94F1-7A09655C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E73-904D-4085-A805-2B98B33C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0E265-7D49-4749-8AFA-3425F56379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