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86404"/>
        <c:axId val="95828819"/>
      </c:barChart>
      <c:catAx>
        <c:axId val="63786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8819"/>
        <c:crosses val="autoZero"/>
        <c:auto val="1"/>
        <c:lblAlgn val="ctr"/>
        <c:lblOffset val="100"/>
        <c:noMultiLvlLbl val="0"/>
      </c:catAx>
      <c:valAx>
        <c:axId val="95828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6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846-360D-4C5E-8323-7929A961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C66-5AA6-4FF7-BA2F-E1D33A89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91E-F324-4F2B-BDE9-4D6B3EB8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E64-C2C4-470F-88AF-268EDD64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6E8-9789-4891-9ABB-EC5ACD26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FFA-2BA2-4E0D-9D4A-E877040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FB2-F3F3-4B09-9590-4E56557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4E7-8E30-4189-B938-483D4AE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473-12CB-4907-A76D-DD5D387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B23-659A-41D9-B660-F6BA1CD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CB6-DCAA-4092-9770-2FF9792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DE5-4E9C-480F-A1D8-08E835F5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40C7B-79D9-46FF-B1E3-1012B3BF9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