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791096"/>
        <c:axId val="88171234"/>
      </c:barChart>
      <c:catAx>
        <c:axId val="287910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171234"/>
        <c:crosses val="autoZero"/>
        <c:auto val="1"/>
        <c:lblAlgn val="ctr"/>
        <c:lblOffset val="100"/>
        <c:noMultiLvlLbl val="0"/>
      </c:catAx>
      <c:valAx>
        <c:axId val="881712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7910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C52F-FA48-413C-ACAF-FEED91AD1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B1E3-983C-41F1-9A84-31DA2B8D3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4CB2-C27D-4C49-B967-9C0878B38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EB23-6610-4D3D-A320-1FFB0A8BD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F2C4-AD41-4C07-971C-552D34CD7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67A0-E5C9-48E1-A028-A2B7CD1E9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9602-B0B5-480E-9656-BBB7FC878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4692-4DDC-4DB8-B712-B9C8D08F9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F7FB-772F-4BD7-B698-5BA321A28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8B36-14BD-4FF0-BAFF-2ADDAFBF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37FD-461B-42BE-B893-3E60FDD1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6E16-3C9F-496F-81D3-FD5EF324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AFB1B8-E6D8-486C-B07E-DA42F4F67EA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