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76813"/>
        <c:axId val="63554025"/>
      </c:barChart>
      <c:catAx>
        <c:axId val="468768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54025"/>
        <c:crosses val="autoZero"/>
        <c:auto val="1"/>
        <c:lblAlgn val="ctr"/>
        <c:lblOffset val="100"/>
        <c:noMultiLvlLbl val="0"/>
      </c:catAx>
      <c:valAx>
        <c:axId val="635540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768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BFE-39D4-4AE6-9BCA-13C1AC36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FB1-7087-4506-B10C-B401CC56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4BF-8AC3-473B-87BB-A46C6F81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66FB-3694-41B5-9F64-B1BBC7EE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DC7-8E48-4530-A733-E9024C2E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674-7667-44C8-BF27-B02E13B0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A945-B2FA-4F05-BA0E-A4690A22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D8AD-42BC-4E1E-98A0-069A09A2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2D02-4D04-4E75-B0F3-2667CE06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A45D-12E2-4326-94A1-D6BF49E2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BB7F-BF5F-455E-B0AB-4E10E032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9EB6-D50D-40B5-AEF6-9F2B1E4E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9BC46-AD80-45C0-9906-3F516C399C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